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DC6-928E-4A5F-AB4E-83F3339F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4A8-6F9A-4B72-9D1A-057E066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BBE-12B2-4E17-90F7-908FF7FB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8F0-58C5-4F37-8CAE-599644E8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C6A-1786-4BCB-945A-B106F7B2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00F-540F-4D8B-8837-8546902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4B5-527E-4834-9714-9088F6F0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A63-E9B7-4F2C-9A12-F585F90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F01-D00B-41F6-854D-C95CA611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365-997C-40E6-966C-16412A0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BD0-DA6E-412D-9374-57BE746F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48B-D8D1-4138-AF15-8B6EDEA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F33-B7FE-47AB-9627-12E9B70D2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36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812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9:29:50Z</dcterms:created>
  <dc:creator>Maria Luz</dc:creator>
  <dc:description/>
  <dc:language>en-US</dc:language>
  <cp:lastModifiedBy>Maria Luz</cp:lastModifiedBy>
  <dcterms:modified xsi:type="dcterms:W3CDTF">2011-12-21T19:30:26Z</dcterms:modified>
  <cp:revision>1</cp:revision>
  <dc:subject/>
  <dc:title>Presentación de PowerPoint</dc:title>
</cp:coreProperties>
</file>